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28621-6C96-43D2-BB91-EE0F8545B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9E135-A898-49BA-A056-0660672D7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AE5C1-2FF0-4471-B29A-9E33B1E6D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C3E51-FB5F-4F37-928B-93584F20F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D9350-F67D-4A15-8D3A-59A284589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E790E-7967-4146-A508-D16AF930E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C4398-FAA4-43CF-B013-F517E2C2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76A6D-76A5-422D-A117-36041E387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3BE9A-6B39-41A6-89DB-008DB7245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CF6D-C7A7-4DA9-AC35-34CAF7B68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6A4F7-75BC-4D80-9C6B-54B5E9B8B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BF6A6-2A71-4127-9039-730B308AC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05E1-564F-40CE-89F8-0AF603DEB9D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88640"/>
            <a:ext cx="8569080" cy="58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И.В.Колтунов</a:t>
            </a:r>
            <a:br>
              <a:rPr sz="2400"/>
            </a:br>
            <a:r>
              <a:rPr b="1" lang="ru-RU" sz="2000" spc="-1" strike="noStrike">
                <a:solidFill>
                  <a:srgbClr val="ff0000"/>
                </a:solidFill>
                <a:latin typeface="Times New Roman"/>
              </a:rPr>
              <a:t>кандидат экономических наук, доцент,</a:t>
            </a:r>
            <a:br>
              <a:rPr sz="2000"/>
            </a:br>
            <a:r>
              <a:rPr b="1" lang="ru-RU" sz="2000" spc="-1" strike="noStrike">
                <a:solidFill>
                  <a:srgbClr val="ff0000"/>
                </a:solidFill>
                <a:latin typeface="Times New Roman"/>
              </a:rPr>
              <a:t>директор Консалтинговой фирмы «Колтунов и партнёры»,</a:t>
            </a:r>
            <a:br>
              <a:rPr sz="2000"/>
            </a:br>
            <a:r>
              <a:rPr b="1" lang="ru-RU" sz="2000" spc="-1" strike="noStrike">
                <a:solidFill>
                  <a:srgbClr val="ff0000"/>
                </a:solidFill>
                <a:latin typeface="Times New Roman"/>
              </a:rPr>
              <a:t>член Ассоциации независимых директоров,</a:t>
            </a:r>
            <a:br>
              <a:rPr sz="2000"/>
            </a:br>
            <a:r>
              <a:rPr b="1" lang="ru-RU" sz="2000" spc="-1" strike="noStrike">
                <a:solidFill>
                  <a:srgbClr val="ff0000"/>
                </a:solidFill>
                <a:latin typeface="Times New Roman"/>
              </a:rPr>
              <a:t>Президент Нижегородской гильдии профессиональных консультантов,</a:t>
            </a:r>
            <a:br>
              <a:rPr sz="2000"/>
            </a:br>
            <a:r>
              <a:rPr b="1" lang="ru-RU" sz="2000" spc="-1" strike="noStrike">
                <a:solidFill>
                  <a:srgbClr val="ff0000"/>
                </a:solidFill>
                <a:latin typeface="Times New Roman"/>
              </a:rPr>
              <a:t>судья Третейского суда и посредник Коллегии медиаторов при ТПП НО</a:t>
            </a:r>
            <a:r>
              <a:rPr b="1" lang="ru-RU" sz="2400" spc="-1" strike="noStrike">
                <a:solidFill>
                  <a:srgbClr val="ff0000"/>
                </a:solidFill>
                <a:latin typeface="Times New Roman"/>
              </a:rPr>
              <a:t> </a:t>
            </a:r>
            <a:br>
              <a:rPr sz="2400"/>
            </a:br>
            <a:br>
              <a:rPr sz="2400"/>
            </a:br>
            <a:r>
              <a:rPr b="1" lang="ru-RU" sz="4800" spc="-1" strike="noStrike">
                <a:solidFill>
                  <a:srgbClr val="ff0000"/>
                </a:solidFill>
                <a:latin typeface="Times New Roman"/>
              </a:rPr>
              <a:t>Как методами</a:t>
            </a:r>
            <a:br>
              <a:rPr sz="4800"/>
            </a:br>
            <a:r>
              <a:rPr b="1" lang="ru-RU" sz="4800" spc="-1" strike="noStrike">
                <a:solidFill>
                  <a:srgbClr val="ff0000"/>
                </a:solidFill>
                <a:latin typeface="Times New Roman"/>
              </a:rPr>
              <a:t>корпоративного управления обеспечить корпоративную безопасность бизнеса</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8000" y="115920"/>
            <a:ext cx="9036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rPr>
              <a:t>Дополнительные права участников ООО</a:t>
            </a:r>
            <a:endParaRPr b="0" lang="en-US" sz="3600" spc="-1" strike="noStrike">
              <a:solidFill>
                <a:srgbClr val="000000"/>
              </a:solidFill>
              <a:latin typeface="Times New Roman"/>
            </a:endParaRPr>
          </a:p>
        </p:txBody>
      </p:sp>
      <p:sp>
        <p:nvSpPr>
          <p:cNvPr id="83" name="PlaceHolder 2"/>
          <p:cNvSpPr>
            <a:spLocks noGrp="1"/>
          </p:cNvSpPr>
          <p:nvPr>
            <p:ph/>
          </p:nvPr>
        </p:nvSpPr>
        <p:spPr>
          <a:xfrm>
            <a:off x="107640" y="1125360"/>
            <a:ext cx="8785080" cy="532944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Помимо прав, предусмотренных ФЗ «Об ООО», Устав ООО может предусматривать иные (дополнительные) права участника (участников) ООО. Эти права могут быть предусмотрены Уставом ООО при его учреждении или предоставлены участнику (участникам) ООО по решению общего собрания участников, принятому всеми участниками единогласно.</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полнительные права, предоставленные определённому участнику ООО, в случае отчуждения его доли (части доли) к приобретателю доли (части доли) не переходя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кращение или ограничение дополнительных прав, предоставленных всем участникам общества, осуществляется по решению общего собрания участников, принятому всеми участниками единогласно.</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кращение или ограничение дополнительных прав, предоставленных определённому участнику ООО, осуществляется по решению общего собрания участников, принятому большинством не менее 2/3 голосов от общего числа голосов участников ООО, при условии, если участник ООО, которому принадлежат такие дополнительные права, голосовал за принятие такого решения.</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астник ООО, которому принадлежат дополнительные права, может отказаться от осуществления этих прав, направив письменное уведомление об этом в ООО. С момента получения уведомления дополнительные права прекращаются.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333360"/>
            <a:ext cx="86104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Отчуждение участником ООО</a:t>
            </a:r>
            <a:br>
              <a:rPr sz="3200"/>
            </a:br>
            <a:r>
              <a:rPr b="1" lang="ru-RU" sz="3200" spc="-1" strike="noStrike">
                <a:solidFill>
                  <a:srgbClr val="0000ff"/>
                </a:solidFill>
                <a:latin typeface="Times New Roman"/>
                <a:ea typeface="Times New Roman"/>
              </a:rPr>
              <a:t>своей доли в уставном капитале</a:t>
            </a:r>
            <a:br>
              <a:rPr sz="2800"/>
            </a:br>
            <a:endParaRPr b="0" lang="en-US" sz="3200" spc="-1" strike="noStrike">
              <a:solidFill>
                <a:srgbClr val="000000"/>
              </a:solidFill>
              <a:latin typeface="Times New Roman"/>
            </a:endParaRPr>
          </a:p>
        </p:txBody>
      </p:sp>
      <p:sp>
        <p:nvSpPr>
          <p:cNvPr id="85" name="PlaceHolder 2"/>
          <p:cNvSpPr>
            <a:spLocks noGrp="1"/>
          </p:cNvSpPr>
          <p:nvPr>
            <p:ph/>
          </p:nvPr>
        </p:nvSpPr>
        <p:spPr>
          <a:xfrm>
            <a:off x="250920" y="1341360"/>
            <a:ext cx="864216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частник ООО вправе продать или осуществить отчуждение иным образом своей доли (части доли) одному или нескольким участникам ООО. </a:t>
            </a:r>
            <a:r>
              <a:rPr b="0" i="1" lang="ru-RU" sz="1800" spc="-1" strike="noStrike">
                <a:solidFill>
                  <a:srgbClr val="000000"/>
                </a:solidFill>
                <a:latin typeface="Times New Roman"/>
                <a:ea typeface="Times New Roman"/>
              </a:rPr>
              <a:t>Согласие других участников или ООО на совершение такой сделки не требуется, если иное не предусмотрено Уставом ООО</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Продажа либо отчуждение иным образом доли (части доли) третьим лицам допускается, если это не запрещено Уставом</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ля участника ООО может быть отчуждена до полной её оплаты только в части, в которой она оплачена</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частники ООО пользуются преимущественным правом покупки доли по цене предложения третьему лицу </a:t>
            </a:r>
            <a:r>
              <a:rPr b="0" i="1" lang="ru-RU" sz="1800" spc="-1" strike="noStrike">
                <a:solidFill>
                  <a:srgbClr val="000000"/>
                </a:solidFill>
                <a:latin typeface="Times New Roman"/>
                <a:ea typeface="Times New Roman"/>
              </a:rPr>
              <a:t>или по другой заранее определённой Уставом цене</a:t>
            </a:r>
            <a:r>
              <a:rPr b="0"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пропорционально размерам своих долей, если Уставом ООО не предусмотрен иной порядок осуществления преимущественного права</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Уставом ООО может быть предусмотрено преимущественное право ООО на покупку доли, если другие участники не использовали своё преимущественное право. При этом заранее установленная Уставом для ООО цена не м.б. ниже цены, установленной для участников ООО</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Заранее определённая Уставом цена может устанавливаться в твёрдой денежной сумме или на основании одного из критериев, определяющих стоимость доли (стоимость чистых активов, балансовая стоимость активов, чистая прибыль и др.)</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ранее определённая Уставом цена должна быть одинаковой для всех участников ООО вне зависимости от принадлежности такой доли (части доли)</a:t>
            </a:r>
            <a:r>
              <a:rPr b="0" i="1"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1155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Отчуждение участником ООО своей доли</a:t>
            </a:r>
            <a:br>
              <a:rPr sz="3200"/>
            </a:br>
            <a:r>
              <a:rPr b="1" lang="ru-RU" sz="3200" spc="-1" strike="noStrike">
                <a:solidFill>
                  <a:srgbClr val="0000ff"/>
                </a:solidFill>
                <a:latin typeface="Times New Roman"/>
                <a:ea typeface="Times New Roman"/>
              </a:rPr>
              <a:t>в уставном капитале (продолжение)</a:t>
            </a:r>
            <a:endParaRPr b="0" lang="en-US" sz="3200" spc="-1" strike="noStrike">
              <a:solidFill>
                <a:srgbClr val="000000"/>
              </a:solidFill>
              <a:latin typeface="Times New Roman"/>
            </a:endParaRPr>
          </a:p>
        </p:txBody>
      </p:sp>
      <p:sp>
        <p:nvSpPr>
          <p:cNvPr id="87"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Уставом ООО может быть предусмотрена возможность участников ООО или ООО воспользоваться преимущественным правом покупки не всей доли (части доли). </a:t>
            </a:r>
            <a:r>
              <a:rPr b="0" lang="ru-RU" sz="1600" spc="-1" strike="noStrike">
                <a:solidFill>
                  <a:srgbClr val="000000"/>
                </a:solidFill>
                <a:latin typeface="Times New Roman"/>
                <a:ea typeface="Times New Roman"/>
              </a:rPr>
              <a:t>При этом оставшаяся доля (часть доли) может быть продана третьему лицу после частичной реализации участниками или ООО преимущественного права</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Уставом ООО может предусматриваться возможность предложения доли (части доли) всем участникам ООО непропорционально размерам их долей (непропорциональное преимущественное право)</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ставом ООО не может предусматриваться предоставление одновременно преимущественного права покупки доли (части доли) по цене предложения третьему лицу и преимущественного права покупки доли (части доли) по заранее определённой Уставом цене</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допускается установление преимущественного права покупки по заранее определённой Уставом цене в отношении отдельного участника ООО либо отдельной доли (части доли)</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допускается уступка указанных преимущественных прав покупки доли (части доли)</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вещение участников ООО и самого ООО о продаже доли (части доли) третьему лицу осуществляется путём направления через ООО за счёт продавца оферты, содержащей указание цены и других условий продажи</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зыв оферты о продаже доли (части доли) после её получения ООО допускается только с согласия всех участников ООО, </a:t>
            </a:r>
            <a:r>
              <a:rPr b="0" i="1" lang="ru-RU" sz="1600" spc="-1" strike="noStrike">
                <a:solidFill>
                  <a:srgbClr val="000000"/>
                </a:solidFill>
                <a:latin typeface="Times New Roman"/>
                <a:ea typeface="Times New Roman"/>
              </a:rPr>
              <a:t>если иное не предусмотрено Уставом ООО</a:t>
            </a: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62028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Переход доли в уставном капитале ООО </a:t>
            </a:r>
            <a:br>
              <a:rPr sz="3200"/>
            </a:br>
            <a:r>
              <a:rPr b="1" lang="ru-RU" sz="3200" spc="-1" strike="noStrike">
                <a:solidFill>
                  <a:srgbClr val="0000ff"/>
                </a:solidFill>
                <a:latin typeface="Times New Roman"/>
                <a:ea typeface="Times New Roman"/>
              </a:rPr>
              <a:t>в порядке наследования или правопреемства</a:t>
            </a:r>
            <a:br>
              <a:rPr sz="2800"/>
            </a:br>
            <a:endParaRPr b="0" lang="en-US" sz="3200" spc="-1" strike="noStrike">
              <a:solidFill>
                <a:srgbClr val="000000"/>
              </a:solidFill>
              <a:latin typeface="Times New Roman"/>
            </a:endParaRPr>
          </a:p>
        </p:txBody>
      </p:sp>
      <p:sp>
        <p:nvSpPr>
          <p:cNvPr id="89" name="PlaceHolder 2"/>
          <p:cNvSpPr>
            <a:spLocks noGrp="1"/>
          </p:cNvSpPr>
          <p:nvPr>
            <p:ph/>
          </p:nvPr>
        </p:nvSpPr>
        <p:spPr>
          <a:xfrm>
            <a:off x="323640" y="1844640"/>
            <a:ext cx="8520120" cy="4492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ли в уставном капитале ООО переходят к наследникам граждан и к </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правопреемникам юридических лиц, являвшихся участниками ООО, </a:t>
            </a:r>
            <a:r>
              <a:rPr b="0" i="1" lang="ru-RU" sz="2000" spc="-1" strike="noStrike">
                <a:solidFill>
                  <a:srgbClr val="000000"/>
                </a:solidFill>
                <a:latin typeface="Times New Roman"/>
                <a:ea typeface="Times New Roman"/>
              </a:rPr>
              <a:t>если иное не предусмотрено Уставом ООО</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Уставом ООО может быть предусмотрено, что переход доли к наследникам и правопреемникам, передача доли, принадлежащей ликвидированному юридическому лицу, его учредителям (участникам) допускаются только с согласия остальных участников ООО</a:t>
            </a:r>
            <a:r>
              <a:rPr b="0"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Уставом ООО может быть предусмотрен различный порядок получения согласия участников ООО на переход доли (части доли) к третьим лицам в зависимости от оснований такого перехода</a:t>
            </a:r>
            <a:r>
              <a:rPr b="0"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 принятия наследником умершего участника ООО наследства, управление его долей осуществляется в порядке, предусмотренном ГК РФ</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продаже доли (части доли) с публичных торгов права и обязанности участника ООО по такой доле (части доли) переходят с согласия участников ООО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228240"/>
            <a:ext cx="8785440" cy="14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Технология «цементирования», связывания </a:t>
            </a:r>
            <a:br>
              <a:rPr sz="3200"/>
            </a:br>
            <a:r>
              <a:rPr b="1" lang="ru-RU" sz="3200" spc="-1" strike="noStrike">
                <a:solidFill>
                  <a:srgbClr val="0000ff"/>
                </a:solidFill>
                <a:latin typeface="Times New Roman"/>
                <a:ea typeface="Times New Roman"/>
              </a:rPr>
              <a:t>консолидированного контрольного </a:t>
            </a:r>
            <a:br>
              <a:rPr sz="3200"/>
            </a:br>
            <a:r>
              <a:rPr b="1" lang="ru-RU" sz="3200" spc="-1" strike="noStrike">
                <a:solidFill>
                  <a:srgbClr val="0000ff"/>
                </a:solidFill>
                <a:latin typeface="Times New Roman"/>
                <a:ea typeface="Times New Roman"/>
              </a:rPr>
              <a:t>пакета акций ОАО при помощи ООО</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PlaceHolder 2"/>
          <p:cNvSpPr>
            <a:spLocks noGrp="1"/>
          </p:cNvSpPr>
          <p:nvPr>
            <p:ph/>
          </p:nvPr>
        </p:nvSpPr>
        <p:spPr>
          <a:xfrm>
            <a:off x="250560" y="1915920"/>
            <a:ext cx="8713800" cy="4679640"/>
          </a:xfrm>
          <a:prstGeom prst="rect">
            <a:avLst/>
          </a:prstGeom>
          <a:noFill/>
          <a:ln w="0">
            <a:noFill/>
          </a:ln>
        </p:spPr>
        <p:txBody>
          <a:bodyPr lIns="90000" rIns="90000" tIns="46800" bIns="46800" anchor="t">
            <a:normAutofit/>
          </a:bodyPr>
          <a:p>
            <a:pPr marL="447840" indent="-36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акеты акций корпорации, принадлежащие членам контролирующей группы, вносятся в уставный капитал контролирующей компании (общества с ограниченной ответственностью)</a:t>
            </a:r>
            <a:endParaRPr b="0" lang="en-US" sz="2000" spc="-1" strike="noStrike">
              <a:solidFill>
                <a:srgbClr val="000000"/>
              </a:solidFill>
              <a:latin typeface="Times New Roman"/>
            </a:endParaRPr>
          </a:p>
          <a:p>
            <a:pPr marL="447840" indent="-36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ценка акций должна вытекать из оговоренной и утверждённой членами группы перспективы деятельности и развития контролирующей компании</a:t>
            </a:r>
            <a:endParaRPr b="0" lang="en-US" sz="2000" spc="-1" strike="noStrike">
              <a:solidFill>
                <a:srgbClr val="000000"/>
              </a:solidFill>
              <a:latin typeface="Times New Roman"/>
            </a:endParaRPr>
          </a:p>
          <a:p>
            <a:pPr marL="447840" indent="-36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граничения на движение долей участия в уставном капитале контролирующей компании зависят от состава, особенностей и перспективы развития контролирующей группы</a:t>
            </a:r>
            <a:endParaRPr b="0" lang="en-US" sz="2000" spc="-1" strike="noStrike">
              <a:solidFill>
                <a:srgbClr val="000000"/>
              </a:solidFill>
              <a:latin typeface="Times New Roman"/>
            </a:endParaRPr>
          </a:p>
          <a:p>
            <a:pPr marL="447840" indent="-36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ханизм и способы голосования (принятия решений) на общем собрании участников контролирующей компании должны определяться целями обеспечения корпоративной безопасности и особенностями корпоративного управления в данной группе компаний</a:t>
            </a:r>
            <a:endParaRPr b="0" lang="en-US" sz="2000" spc="-1" strike="noStrike">
              <a:solidFill>
                <a:srgbClr val="000000"/>
              </a:solidFill>
              <a:latin typeface="Times New Roman"/>
            </a:endParaRPr>
          </a:p>
          <a:p>
            <a:pPr marL="447840" indent="-362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ормирование Совета директоров контролирующей компании и распределение полномочий между Советом и общим собранием участников зависит от количественного состава участников и задач корпоративного управления</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1556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rPr>
              <a:t>Обеспечение корпоративной безопасности при помощи акционерного соглашения</a:t>
            </a:r>
            <a:endParaRPr b="0" lang="en-US" sz="3200" spc="-1" strike="noStrike">
              <a:solidFill>
                <a:srgbClr val="000000"/>
              </a:solidFill>
              <a:latin typeface="Times New Roman"/>
            </a:endParaRPr>
          </a:p>
        </p:txBody>
      </p:sp>
      <p:sp>
        <p:nvSpPr>
          <p:cNvPr id="93" name="PlaceHolder 2"/>
          <p:cNvSpPr>
            <a:spLocks noGrp="1"/>
          </p:cNvSpPr>
          <p:nvPr>
            <p:ph/>
          </p:nvPr>
        </p:nvSpPr>
        <p:spPr>
          <a:xfrm>
            <a:off x="179280" y="1341000"/>
            <a:ext cx="8856720" cy="5257800"/>
          </a:xfrm>
          <a:prstGeom prst="rect">
            <a:avLst/>
          </a:prstGeom>
          <a:noFill/>
          <a:ln w="0">
            <a:noFill/>
          </a:ln>
        </p:spPr>
        <p:txBody>
          <a:bodyPr lIns="90000" rIns="90000" tIns="46800" bIns="46800" anchor="t">
            <a:normAutofit/>
          </a:bodyPr>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гласованное выдвижение кандидатов в органы Общества, а также согласованное досрочное освобождение их от занимаемой должности</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нсолидированное (предварительно согласованное) голосование на общем собрании акционеров при формировании органов Общества</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прет на отчуждение акций третьим лицам, либо их отчуждение только по единогласному решению всех участников акционерного соглашения</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прет на передачу в залог акций третьим лицам, либо их передача в залог только по единогласному решению всех участников акционерного соглашения</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собый режим наследования акций (согласование с другими акционерами включения акций в наследственную массу)</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значение исполнителями завещаний участников акционерного соглашения</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нятие наследников в настоящее акционерное соглашение (при их согласии)</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рианты с заменой Генерального директора (в случае форс-мажорных обстоятельств)</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гласованные действия в случае реорганизации Общества (например, преобразование в ООО)</a:t>
            </a:r>
            <a:endParaRPr b="0" lang="en-US" sz="1800" spc="-1" strike="noStrike">
              <a:solidFill>
                <a:srgbClr val="000000"/>
              </a:solidFill>
              <a:latin typeface="Times New Roman"/>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en-US" sz="1800" spc="-1" strike="noStrike">
                <a:solidFill>
                  <a:srgbClr val="000000"/>
                </a:solidFill>
                <a:latin typeface="Times New Roman"/>
              </a:rPr>
              <a:t>NB</a:t>
            </a:r>
            <a:r>
              <a:rPr b="1" lang="ru-RU" sz="1800" spc="-1" strike="noStrike">
                <a:solidFill>
                  <a:srgbClr val="000000"/>
                </a:solidFill>
                <a:latin typeface="Times New Roman"/>
              </a:rPr>
              <a:t> !!!</a:t>
            </a:r>
            <a:r>
              <a:rPr b="0" lang="ru-RU" sz="1800" spc="-1" strike="noStrike">
                <a:solidFill>
                  <a:srgbClr val="000000"/>
                </a:solidFill>
                <a:latin typeface="Times New Roman"/>
              </a:rPr>
              <a:t>  Необходимо ввести очень жёсткие способы обеспечения исполнения обязательств и меры ответственности сторон (возмещение причинённых убытков, взыскание неустойки, штрафа, пеней, выплата компенсации, применение залога, в т.ч. взаимного залога самих акций, обязанность продать акции другим сторонам соглашения по определённой цене и иные меры ответственности)</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Корпоративные войны – это борьба в сфере корпоративного бизнеса за передел собственности и сфер влияния, осуществляемая как законными, так и незаконными способами</a:t>
            </a:r>
            <a:br>
              <a:rPr sz="2400"/>
            </a:br>
            <a:endParaRPr b="0" lang="en-US" sz="2400" spc="-1" strike="noStrike">
              <a:solidFill>
                <a:srgbClr val="000000"/>
              </a:solidFill>
              <a:latin typeface="Times New Roman"/>
            </a:endParaRPr>
          </a:p>
        </p:txBody>
      </p:sp>
      <p:sp>
        <p:nvSpPr>
          <p:cNvPr id="43" name=""/>
          <p:cNvSpPr/>
          <p:nvPr/>
        </p:nvSpPr>
        <p:spPr>
          <a:xfrm>
            <a:off x="468360" y="1557360"/>
            <a:ext cx="8351640" cy="455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57200" y="20574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457200" y="25146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060640"/>
            <a:ext cx="0" cy="38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500840" y="1614600"/>
            <a:ext cx="520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Основные виды корпоративных войн</a:t>
            </a:r>
            <a:r>
              <a:rPr b="1"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 name=""/>
          <p:cNvSpPr/>
          <p:nvPr/>
        </p:nvSpPr>
        <p:spPr>
          <a:xfrm>
            <a:off x="818640" y="2071800"/>
            <a:ext cx="35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Войны внутри корпорации</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9" name=""/>
          <p:cNvSpPr/>
          <p:nvPr/>
        </p:nvSpPr>
        <p:spPr>
          <a:xfrm>
            <a:off x="5795640" y="2060640"/>
            <a:ext cx="217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нешние войны </a:t>
            </a:r>
            <a:r>
              <a:rPr b="1"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
          <p:cNvSpPr/>
          <p:nvPr/>
        </p:nvSpPr>
        <p:spPr>
          <a:xfrm>
            <a:off x="517680" y="2552760"/>
            <a:ext cx="4125600" cy="383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различными (в т.ч. мажоритарными и миноритарными) участниками (акционерами) за влияние на корпорацию и получение дохода (в разных формах)</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ea typeface="Times New Roman"/>
              </a:rPr>
              <a:t>Войны внутри неконсолидированной контролирующей группы за места в Совете директоров и назначение Генерального директор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высшим менеджментом и основными группами участников (акционеров) за контроль над финансовыми потокам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ойны между менеджментом – администрацией АО и сплочённым трудовым коллективо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нфликты между арбитражным управляющим АО, находящегося на ранних стадиях процедуры банкротства, и участниками (акционерами) компани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51" name=""/>
          <p:cNvSpPr/>
          <p:nvPr/>
        </p:nvSpPr>
        <p:spPr>
          <a:xfrm>
            <a:off x="4716360" y="2421000"/>
            <a:ext cx="4122720" cy="40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компаниями, производящими однотипную продукцию, за источники сырья и рынки сбыт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компаниями, производящими взаимозаменяемую продукцию, за потребителя (за рынки сбыт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компаниями, производящими разнородную продукцию, за наиболее выгодные сферы вложения капитал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нфликты между государством в целом </a:t>
            </a:r>
            <a:r>
              <a:rPr b="0" lang="ru-RU" sz="1400" spc="-1" strike="noStrike">
                <a:solidFill>
                  <a:srgbClr val="000000"/>
                </a:solidFill>
                <a:latin typeface="Times New Roman"/>
              </a:rPr>
              <a:t>(его органами) как активным участником рынка капитала в сегменте «второго передела бизнес-собственности» и компание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Конфликты между жителями населённого пункта, в котором компания является «опорным» работодателем, и дирекцией компани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52" name=""/>
          <p:cNvSpPr/>
          <p:nvPr/>
        </p:nvSpPr>
        <p:spPr>
          <a:xfrm>
            <a:off x="4716360" y="587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Делегирование полномочий </a:t>
            </a:r>
            <a:br>
              <a:rPr sz="2800"/>
            </a:br>
            <a:r>
              <a:rPr b="1" lang="ru-RU" sz="2800" spc="-1" strike="noStrike">
                <a:solidFill>
                  <a:srgbClr val="0000ff"/>
                </a:solidFill>
                <a:latin typeface="Times New Roman"/>
                <a:ea typeface="Times New Roman"/>
              </a:rPr>
              <a:t>Генерального директора АО (ООО)</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 name="PlaceHolder 2"/>
          <p:cNvSpPr>
            <a:spLocks noGrp="1"/>
          </p:cNvSpPr>
          <p:nvPr>
            <p:ph/>
          </p:nvPr>
        </p:nvSpPr>
        <p:spPr>
          <a:xfrm>
            <a:off x="0" y="685800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457200" y="1295280"/>
            <a:ext cx="2602080" cy="141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019920" y="1295280"/>
            <a:ext cx="2666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80040" y="1281240"/>
            <a:ext cx="28846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меститель Генерального директора (назначен Генеральным директором без согласования с участниками или Советом)</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8" name=""/>
          <p:cNvSpPr/>
          <p:nvPr/>
        </p:nvSpPr>
        <p:spPr>
          <a:xfrm>
            <a:off x="539640" y="1341360"/>
            <a:ext cx="26067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Генеральный директор (назначен общим собранием акционеров - участников или Советом директоров)</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9" name=""/>
          <p:cNvSpPr/>
          <p:nvPr/>
        </p:nvSpPr>
        <p:spPr>
          <a:xfrm>
            <a:off x="3184560" y="1281240"/>
            <a:ext cx="2759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риказу исполнение обязанностей на время отсутствия Генерального директора</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0" name=""/>
          <p:cNvSpPr/>
          <p:nvPr/>
        </p:nvSpPr>
        <p:spPr>
          <a:xfrm>
            <a:off x="3048120" y="2362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565440" y="2805120"/>
            <a:ext cx="401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дача генеральной доверенности на право</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вершения сделок от имени общества (сделки ограничены по крупности только ФЗ «Об АО» или ФЗ «Об ООО» - 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 name=""/>
          <p:cNvSpPr/>
          <p:nvPr/>
        </p:nvSpPr>
        <p:spPr>
          <a:xfrm>
            <a:off x="5943600" y="4038480"/>
            <a:ext cx="2666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004080" y="4024440"/>
            <a:ext cx="2606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ретье лицо (может не являться сотрудником корпорации)</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4" name=""/>
          <p:cNvSpPr/>
          <p:nvPr/>
        </p:nvSpPr>
        <p:spPr>
          <a:xfrm>
            <a:off x="8001000" y="26668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00400" y="5486400"/>
            <a:ext cx="5715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336840" y="5472000"/>
            <a:ext cx="5578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оронняя организация (подставная фирма заместителя Генерального директора или третьего лица, формально </a:t>
            </a:r>
            <a:r>
              <a:rPr b="1" lang="ru-RU" sz="1600" spc="-1" strike="noStrike">
                <a:solidFill>
                  <a:srgbClr val="000000"/>
                </a:solidFill>
                <a:latin typeface="Times New Roman"/>
              </a:rPr>
              <a:t>   </a:t>
            </a:r>
            <a:r>
              <a:rPr b="1" lang="ru-RU" sz="1600" spc="-1" strike="noStrike">
                <a:solidFill>
                  <a:srgbClr val="000000"/>
                </a:solidFill>
                <a:latin typeface="Times New Roman"/>
                <a:ea typeface="Times New Roman"/>
              </a:rPr>
              <a:t>не аффилированная с ними и не подпадающая под ограничения сделок с заинтересованностью)</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7" name=""/>
          <p:cNvSpPr/>
          <p:nvPr/>
        </p:nvSpPr>
        <p:spPr>
          <a:xfrm>
            <a:off x="3645000" y="4786200"/>
            <a:ext cx="2628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делка по уводу ликвидны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тивов из компани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
          <p:cNvSpPr/>
          <p:nvPr/>
        </p:nvSpPr>
        <p:spPr>
          <a:xfrm flipV="1">
            <a:off x="701028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9246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rPr>
              <a:t>Использование кредитной сделки</a:t>
            </a:r>
            <a:br>
              <a:rPr sz="3200"/>
            </a:br>
            <a:r>
              <a:rPr b="1" lang="ru-RU" sz="3200" spc="-1" strike="noStrike">
                <a:solidFill>
                  <a:srgbClr val="0000ff"/>
                </a:solidFill>
                <a:latin typeface="Times New Roman"/>
              </a:rPr>
              <a:t>для увода активов общества</a:t>
            </a:r>
            <a:endParaRPr b="0" lang="en-US" sz="3200" spc="-1" strike="noStrike">
              <a:solidFill>
                <a:srgbClr val="000000"/>
              </a:solidFill>
              <a:latin typeface="Times New Roman"/>
            </a:endParaRPr>
          </a:p>
        </p:txBody>
      </p:sp>
      <p:sp>
        <p:nvSpPr>
          <p:cNvPr id="71" name="PlaceHolder 2"/>
          <p:cNvSpPr>
            <a:spLocks noGrp="1"/>
          </p:cNvSpPr>
          <p:nvPr>
            <p:ph/>
          </p:nvPr>
        </p:nvSpPr>
        <p:spPr>
          <a:xfrm>
            <a:off x="468000" y="1628280"/>
            <a:ext cx="8351640" cy="5040360"/>
          </a:xfrm>
          <a:prstGeom prst="rect">
            <a:avLst/>
          </a:prstGeom>
          <a:noFill/>
          <a:ln w="0">
            <a:noFill/>
          </a:ln>
        </p:spPr>
        <p:txBody>
          <a:bodyPr lIns="90000" rIns="90000" tIns="46800" bIns="46800" anchor="t">
            <a:normAutofit/>
          </a:bodyPr>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1600" spc="-1" strike="noStrike">
                <a:solidFill>
                  <a:srgbClr val="000000"/>
                </a:solidFill>
                <a:latin typeface="Times New Roman"/>
              </a:rPr>
              <a:t>При помощи кредита увеличивается валюта баланса и затем объекты основных средств продаются без согласования с Советом директоров или собранием акционеров.</a:t>
            </a: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1600" spc="-1" strike="noStrike">
                <a:solidFill>
                  <a:srgbClr val="000000"/>
                </a:solidFill>
                <a:latin typeface="Times New Roman"/>
              </a:rPr>
              <a:t>ПРИМЕР:</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алюта баланса – 1 880 000 рублей, в т.ч. здание магазина – 500 230 рублей (26,6 %)</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енеральный директор привлекает кредитные средства в размере 400 000 рублей сроком на один год с целью покупки нового складского оборудования. Кредитная сделка не является крупной (21,3 %) и одобрения не требует.</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кладское оборудование после его приобретения ставится на баланс по цене приобретения и валюта баланса увеличивается до 2 280 000 рублей. Теперь балансовая стоимость здания магазина составляет 22 % от валюты баланса.</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енеральный директор продаёт здание магазина, а с покупателем заключает краткосрочный договор аренды помещений. В результате торговая деятельность продолжается на тех же площадях и собственники не знают о потере недвижимости.</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енеральный директор и главный бухгалтер увольняются.</a:t>
            </a: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1600" spc="-1" strike="noStrike">
                <a:solidFill>
                  <a:srgbClr val="000000"/>
                </a:solidFill>
                <a:latin typeface="Times New Roman"/>
              </a:rPr>
              <a:t>СПРАВКА:</a:t>
            </a: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Рыночная стоимость магазина согласно заключению независимого оценщика составляет 52 330 000 рублей</a:t>
            </a: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90720"/>
            <a:ext cx="7848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Императивные и диспозитивные нормы</a:t>
            </a:r>
            <a:br>
              <a:rPr sz="2800"/>
            </a:br>
            <a:r>
              <a:rPr b="1" lang="ru-RU" sz="2800" spc="-1" strike="noStrike">
                <a:solidFill>
                  <a:srgbClr val="0000ff"/>
                </a:solidFill>
                <a:latin typeface="Times New Roman"/>
                <a:ea typeface="Times New Roman"/>
              </a:rPr>
              <a:t>в российском гражданском законодательстве</a:t>
            </a:r>
            <a:br>
              <a:rPr sz="2800"/>
            </a:br>
            <a:r>
              <a:rPr b="1" lang="ru-RU"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73" name="PlaceHolder 2"/>
          <p:cNvSpPr>
            <a:spLocks noGrp="1"/>
          </p:cNvSpPr>
          <p:nvPr>
            <p:ph/>
          </p:nvPr>
        </p:nvSpPr>
        <p:spPr>
          <a:xfrm>
            <a:off x="304560" y="1599840"/>
            <a:ext cx="8458200" cy="5257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a:t>
            </a:r>
            <a:r>
              <a:rPr b="1" lang="ru-RU" sz="1800" spc="-1" strike="noStrike">
                <a:solidFill>
                  <a:srgbClr val="000000"/>
                </a:solidFill>
                <a:latin typeface="Times New Roman"/>
                <a:ea typeface="Times New Roman"/>
              </a:rPr>
              <a:t>ормы права императивные (категорические)</a:t>
            </a:r>
            <a:r>
              <a:rPr b="0" lang="ru-RU" sz="1800" spc="-1" strike="noStrike">
                <a:solidFill>
                  <a:srgbClr val="000000"/>
                </a:solidFill>
                <a:latin typeface="Times New Roman"/>
                <a:ea typeface="Times New Roman"/>
              </a:rPr>
              <a:t> – содержат властные предписания, отступления от которых не допускаются. Примером может служить норма корпоративного права, согласно которой закрытое акционерное общество не вправе проводить открытую подписку на выпускаемые им акции либо иным образом предлагать их для приобретения неограниченному кругу лиц (п.3 ст.7 Федерального закона «Об акционерных обществах»)</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Нормы права диспозитивные</a:t>
            </a:r>
            <a:r>
              <a:rPr b="0" i="1" lang="ru-RU" sz="1800" spc="-1" strike="noStrike">
                <a:solidFill>
                  <a:srgbClr val="000000"/>
                </a:solidFill>
                <a:latin typeface="Times New Roman"/>
                <a:ea typeface="Times New Roman"/>
              </a:rPr>
              <a:t> – предоставляют субъектам права возможность самим решать вопрос об объёме и характере своих прав и обязанностей. При отсутствии такой договорённости вступает в действие второе предписание, содержащееся в них. Примером может служить норма корпоративного права, согласно которой к компетенции общего собрания акционеров относится образование исполнительного органа общества и досрочное прекращение его полномочий, если уставом общества решение этих вопросов не отнесено к компетенции совета директоров (п.п.8 п.1 ст.48 Федерального закона «Об акционерных обществах»)</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ea typeface="Times New Roman"/>
              </a:rPr>
              <a:t>Способы профилактики и обеспечения корпоративной безопасности бизнеса</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5" name="PlaceHolder 2"/>
          <p:cNvSpPr>
            <a:spLocks noGrp="1"/>
          </p:cNvSpPr>
          <p:nvPr>
            <p:ph/>
          </p:nvPr>
        </p:nvSpPr>
        <p:spPr>
          <a:xfrm>
            <a:off x="179280" y="1989000"/>
            <a:ext cx="8785440" cy="4400640"/>
          </a:xfrm>
          <a:prstGeom prst="rect">
            <a:avLst/>
          </a:prstGeom>
          <a:noFill/>
          <a:ln w="0">
            <a:noFill/>
          </a:ln>
        </p:spPr>
        <p:txBody>
          <a:bodyPr lIns="90000" rIns="90000" tIns="46800" bIns="46800" anchor="t">
            <a:normAutofit/>
          </a:bodyPr>
          <a:p>
            <a:pPr marL="628560" indent="-44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ведение корпоративного аудита (аудита корпоративного управления) с целью выявления «гнилых досок» в конструкции компании, готовых провалиться</a:t>
            </a:r>
            <a:endParaRPr b="0" lang="en-US" sz="2400" spc="-1" strike="noStrike">
              <a:solidFill>
                <a:srgbClr val="000000"/>
              </a:solidFill>
              <a:latin typeface="Times New Roman"/>
            </a:endParaRPr>
          </a:p>
          <a:p>
            <a:pPr marL="628560" indent="-44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a:t>
            </a:r>
            <a:r>
              <a:rPr b="0" lang="ru-RU" sz="2400" spc="-1" strike="noStrike">
                <a:solidFill>
                  <a:srgbClr val="000000"/>
                </a:solidFill>
                <a:latin typeface="Times New Roman"/>
                <a:ea typeface="Times New Roman"/>
              </a:rPr>
              <a:t>азработка и принятие «защитного» варианта Устава компании, минимизирующего возможность внешнего агрессивного захвата и внутрикорпоративного конфликта</a:t>
            </a:r>
            <a:endParaRPr b="0" lang="en-US" sz="2400" spc="-1" strike="noStrike">
              <a:solidFill>
                <a:srgbClr val="000000"/>
              </a:solidFill>
              <a:latin typeface="Times New Roman"/>
            </a:endParaRPr>
          </a:p>
          <a:p>
            <a:pPr marL="628560" indent="-44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язывание, «цементирование» консолидированного контрольного пакета акций (прежде всего в ОАО) с целью недопущения его дробления (при помощи «хитрого» ООО)</a:t>
            </a:r>
            <a:endParaRPr b="0" lang="en-US" sz="2400" spc="-1" strike="noStrike">
              <a:solidFill>
                <a:srgbClr val="000000"/>
              </a:solidFill>
              <a:latin typeface="Times New Roman"/>
            </a:endParaRPr>
          </a:p>
          <a:p>
            <a:pPr marL="628560" indent="-44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ъединение крупных пакетов акций контролирующих акционеров и согласование их действий при помощи акционерного соглашения</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88640"/>
            <a:ext cx="864216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ea typeface="Times New Roman"/>
              </a:rPr>
              <a:t>Содержание корпоративного аудита</a:t>
            </a:r>
            <a:br>
              <a:rPr sz="3600"/>
            </a:br>
            <a:r>
              <a:rPr b="1" lang="ru-RU" sz="3600" spc="-1" strike="noStrike">
                <a:solidFill>
                  <a:srgbClr val="0000ff"/>
                </a:solidFill>
                <a:latin typeface="Times New Roman"/>
                <a:ea typeface="Times New Roman"/>
              </a:rPr>
              <a:t>(аудита корпоративного управления)</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7" name="PlaceHolder 2"/>
          <p:cNvSpPr>
            <a:spLocks noGrp="1"/>
          </p:cNvSpPr>
          <p:nvPr>
            <p:ph/>
          </p:nvPr>
        </p:nvSpPr>
        <p:spPr>
          <a:xfrm>
            <a:off x="108000" y="1341000"/>
            <a:ext cx="8856720" cy="5327640"/>
          </a:xfrm>
          <a:prstGeom prst="rect">
            <a:avLst/>
          </a:prstGeom>
          <a:noFill/>
          <a:ln w="0">
            <a:noFill/>
          </a:ln>
        </p:spPr>
        <p:txBody>
          <a:bodyPr lIns="90000" rIns="90000" tIns="46800" bIns="46800" anchor="t">
            <a:normAutofit/>
          </a:bodyPr>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кспертиза Устава компании и Уставов её дочерних и зависимых хозяйственных обществ на предмет их соответствия требованиям законодательства РФ, задачам оптимизации корпоративного управления и обеспечения корпоративной безопасности</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кспертиза внутренних документов компании (Положений об общем собрании акционеров или участников, о Совете директоров, о ревизионной комиссии, о Генеральном директоре, трудовых договоров с высшим менеджментом, Положения об оплате труда и премировании и др.)</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верка протоколов общих собраний акционеров или участников (включая протоколы счётной комиссии), заседаний Совета директоров и Правления (особенно по вопросам, связанным с корпоративным управлением)</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личие в компании документов, предусмотренных законодательством (эмиссионные документы, список аффилированных лиц, документы об акционерных соглашениях, отчёты независимых оценщиков и др.)</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верка сделок с ценными бумагами (долями участия в уставном капитале) компании, осуществлявшихся самой компанией и её участниками – акционерами (увеличение и уменьшение уставного капитала, консолидация и дробление акций, выкуп акций или долей на баланс компании, отчуждение участниками – акционерами акций ЗАО и долей в уставном капитале ООО, наследование долей и др.)</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авильность ведения реестра акционеров (если компания ведёт реестр самостоятельно) или списка участников в ООО, наличие Правил ведения реестра, своевременная отчётность в ФСФР о ведении реестра и др.</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блюдение требований законодательства по раскрытию информации, полнота раскрываемой информации</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структуры группы компаний на предмет соответствия требованиям антимонопольного законодательства и налоговым рискам (УСН, ИП и др.)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Особенности «защитного» варианта </a:t>
            </a:r>
            <a:br>
              <a:rPr sz="3200"/>
            </a:br>
            <a:r>
              <a:rPr b="1" lang="ru-RU" sz="3200" spc="-1" strike="noStrike">
                <a:solidFill>
                  <a:srgbClr val="0000ff"/>
                </a:solidFill>
                <a:latin typeface="Times New Roman"/>
                <a:ea typeface="Times New Roman"/>
              </a:rPr>
              <a:t>Устава компании</a:t>
            </a:r>
            <a:br>
              <a:rPr sz="3200"/>
            </a:br>
            <a:endParaRPr b="0" lang="en-US" sz="3200" spc="-1" strike="noStrike">
              <a:solidFill>
                <a:srgbClr val="000000"/>
              </a:solidFill>
              <a:latin typeface="Times New Roman"/>
            </a:endParaRPr>
          </a:p>
        </p:txBody>
      </p:sp>
      <p:sp>
        <p:nvSpPr>
          <p:cNvPr id="79" name="PlaceHolder 2"/>
          <p:cNvSpPr>
            <a:spLocks noGrp="1"/>
          </p:cNvSpPr>
          <p:nvPr>
            <p:ph/>
          </p:nvPr>
        </p:nvSpPr>
        <p:spPr>
          <a:xfrm>
            <a:off x="108000" y="1142640"/>
            <a:ext cx="8928000" cy="5715000"/>
          </a:xfrm>
          <a:prstGeom prst="rect">
            <a:avLst/>
          </a:prstGeom>
          <a:noFill/>
          <a:ln w="0">
            <a:noFill/>
          </a:ln>
        </p:spPr>
        <p:txBody>
          <a:bodyPr lIns="90000" rIns="90000" tIns="46800" bIns="46800" anchor="t">
            <a:normAutofit/>
          </a:bodyPr>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руктура Устава должна быть удобной для работы. Не следует перегружать Устав императивными нормами</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 диспозитивные нормы должны быть прописаны очень тщательно (особенно в ООО) и не давать возможности двоякого толкования</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лжны быть предусмотрены возможности для манёвра с ценными бумагами АО (наличие объявленных акций, возможность проведения эмиссии решением Совета директоров и др.)</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лжны быть предусмотрены возможности для манёвра с имуществом ООО (внесение вкладов в имущество, причём по «кривым» схемам)</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предусмотреть возможность для манёвра с количественным составом Совета директоров А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пособы оповещения акционеров АО (участников ООО) о проведении общего собрания должны логически вытекать из структуры уставного капитал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рмирование исполнительных органов АО целесообразно отдать в компетенцию Совета директоров</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детально продумать механизм отчуждения и залога долей в уставном капитале ОО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роговые значения для принятия решений на общем собрании участников ООО должны вытекать из структуры уставного капитала ОО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тщательно продумать состав норм, ограничивающих компетенцию исполнительных органов</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едует предусмотреть возможность принятия решений Советом путём заочного голосования (письменное мнение члена Совета), однако детализировать регламент работы Совета директоров нецелесообразн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лжна быть возможность оперативного приостановления полномочий управляющей организации или управляющего</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404280"/>
            <a:ext cx="91440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граничение полномочий Генерального директора</a:t>
            </a:r>
            <a:r>
              <a:rPr b="1" lang="ru-RU" sz="2800" spc="-1" strike="noStrike">
                <a:solidFill>
                  <a:srgbClr val="0000ff"/>
                </a:solidFill>
                <a:latin typeface="Times New Roman"/>
              </a:rPr>
              <a:t> </a:t>
            </a:r>
            <a:br>
              <a:rPr sz="2800"/>
            </a:br>
            <a:r>
              <a:rPr b="1" lang="ru-RU" sz="2800" spc="-1" strike="noStrike">
                <a:solidFill>
                  <a:srgbClr val="0000ff"/>
                </a:solidFill>
                <a:latin typeface="Times New Roman"/>
                <a:ea typeface="Times New Roman"/>
              </a:rPr>
              <a:t>с точки зрения обеспечения </a:t>
            </a:r>
            <a:br>
              <a:rPr sz="2800"/>
            </a:br>
            <a:r>
              <a:rPr b="1" lang="ru-RU" sz="2800" spc="-1" strike="noStrike">
                <a:solidFill>
                  <a:srgbClr val="0000ff"/>
                </a:solidFill>
                <a:latin typeface="Times New Roman"/>
                <a:ea typeface="Times New Roman"/>
              </a:rPr>
              <a:t>корпоративной</a:t>
            </a:r>
            <a:r>
              <a:rPr b="1" lang="ru-RU" sz="2800" spc="-1" strike="noStrike">
                <a:solidFill>
                  <a:srgbClr val="0000ff"/>
                </a:solidFill>
                <a:latin typeface="Times New Roman"/>
              </a:rPr>
              <a:t> </a:t>
            </a:r>
            <a:r>
              <a:rPr b="1" lang="ru-RU" sz="2800" spc="-1" strike="noStrike">
                <a:solidFill>
                  <a:srgbClr val="0000ff"/>
                </a:solidFill>
                <a:latin typeface="Times New Roman"/>
                <a:ea typeface="Times New Roman"/>
              </a:rPr>
              <a:t>безопасности компании</a:t>
            </a:r>
            <a:br>
              <a:rPr sz="2400"/>
            </a:br>
            <a:endParaRPr b="0" lang="en-US" sz="2800" spc="-1" strike="noStrike">
              <a:solidFill>
                <a:srgbClr val="000000"/>
              </a:solidFill>
              <a:latin typeface="Times New Roman"/>
            </a:endParaRPr>
          </a:p>
        </p:txBody>
      </p:sp>
      <p:sp>
        <p:nvSpPr>
          <p:cNvPr id="81" name="PlaceHolder 2"/>
          <p:cNvSpPr>
            <a:spLocks noGrp="1"/>
          </p:cNvSpPr>
          <p:nvPr>
            <p:ph/>
          </p:nvPr>
        </p:nvSpPr>
        <p:spPr>
          <a:xfrm>
            <a:off x="358560" y="1699920"/>
            <a:ext cx="8605800" cy="5040360"/>
          </a:xfrm>
          <a:prstGeom prst="rect">
            <a:avLst/>
          </a:prstGeom>
          <a:noFill/>
          <a:ln w="0">
            <a:noFill/>
          </a:ln>
        </p:spPr>
        <p:txBody>
          <a:bodyPr lIns="90000" rIns="90000" tIns="46800" bIns="46800" anchor="t">
            <a:normAutofit/>
          </a:bodyPr>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Целесообразно передать в компетенцию Совета директоров АО (общего собрания участников ООО) решение следующих  вопросов:</a:t>
            </a:r>
            <a:endParaRPr b="0" lang="en-US" sz="1600" spc="-1" strike="noStrike">
              <a:solidFill>
                <a:srgbClr val="000000"/>
              </a:solidFill>
              <a:latin typeface="Times New Roman"/>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пределение основных принципов ценовой и тарифной политики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ие структуры и штатного расписания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a:t>
            </a:r>
            <a:r>
              <a:rPr b="0" lang="ru-RU" sz="1600" spc="-1" strike="noStrike">
                <a:solidFill>
                  <a:srgbClr val="000000"/>
                </a:solidFill>
                <a:latin typeface="Times New Roman"/>
                <a:ea typeface="Times New Roman"/>
              </a:rPr>
              <a:t>огласование всех возможных режимов делегирования полномочий Генерального директора (выдача доверенностей, подписание приказа о назначении исполняющего обязанности и др.) для совершения действий от имени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ие кандидатур на должности заместителей Генерального директора (директоров по направлениям деятельности Общества), главного бухгалтера и утверждение договоров с ними;</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чуждение размещённых акций Общества, находящихся в распоряжении (на балансе) Общества (только для А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обретение, отчуждение и возможность отчуждения Обществом недвижимого иму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обретение, отчуждение и возможность отчуждения Обществом интеллектуальной собственности;</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a:t>
            </a:r>
            <a:r>
              <a:rPr b="0" lang="ru-RU" sz="1600" spc="-1" strike="noStrike">
                <a:solidFill>
                  <a:srgbClr val="000000"/>
                </a:solidFill>
                <a:latin typeface="Times New Roman"/>
                <a:ea typeface="Times New Roman"/>
              </a:rPr>
              <a:t>риобретение, отчуждение Обществом имущества и совершение сделок стоимостью свыше 5% балансовой стоимости активов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дача и получение Обществом займов, кредитов и поручительств на сумму свыше 5% балансовой стоимости активов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 прав, предоставляемых принадлежащими Обществу акциями (паями, долями в уставном капитале) других коммерческих организаций;</a:t>
            </a:r>
            <a:endParaRPr b="0" lang="en-US" sz="1600" spc="-1" strike="noStrike">
              <a:solidFill>
                <a:srgbClr val="000000"/>
              </a:solidFill>
              <a:latin typeface="Times New Roman"/>
            </a:endParaRPr>
          </a:p>
          <a:p>
            <a:pPr marL="2667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горь Владимировч</cp:lastModifiedBy>
  <dcterms:modified xsi:type="dcterms:W3CDTF">2011-09-30T09:05:08Z</dcterms:modified>
  <cp:revision>13</cp:revision>
  <dc:subject/>
  <dc:title>PowerPoint Presentation</dc:title>
</cp:coreProperties>
</file>